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1F4E-50E5-4F14-A50C-A4ABB31E4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6449-EB92-447F-8EAD-DEC086CDA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6034-67CB-474D-96D9-626B1BC50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BAB0-2CE3-4279-B98A-EE82D4377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48D66-098C-4C41-8176-D06F3E895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43FD6-3AF0-456C-90C2-25D25FD0A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47268-C035-48A7-AFB4-74274E8BA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C621A-2662-44C0-B95B-EBF7FFE37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14CD0-F306-4BFE-AB3D-69FD41366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57717-4714-4460-8DF7-560383C5A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23516-DD00-4BEA-8384-EA7B17A8F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D854-0901-4C78-9F86-9D9557A75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6B6A1-1FBE-4BD9-A593-4D8A804E0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876E0-9EEA-4B04-A3B8-68B7AD73D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3F345-540E-490D-8430-DC6B96AC8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47D67-CDF5-4387-B89F-4DB3B1EAF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AFC41-B30B-4328-BA22-B4F275FC4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18BB-B0FA-4E83-9B17-5C6437A1A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02EF-8DED-4D5F-853E-93B00778A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40BF-E7C7-4B87-A55A-CDEAE7EF2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758E-87EB-421E-879C-D59C575E0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B08C-FE53-472F-97CA-69107EF6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954A-D16E-4303-88F7-65E0C369A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7DF3-7DC1-4C60-88F9-C713FCD69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8F257-FC61-420E-917C-738380081C4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200BA-54FF-43B5-A45D-7F30E317D2D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0033"/>
                </a:solidFill>
                <a:latin typeface="Broadway"/>
              </a:rPr>
              <a:t>Geometry 1</a:t>
            </a:r>
            <a:br>
              <a:rPr sz="4000"/>
            </a:br>
            <a:r>
              <a:rPr b="0" lang="en-US" sz="4000" spc="-1" strike="noStrike">
                <a:solidFill>
                  <a:srgbClr val="330033"/>
                </a:solidFill>
                <a:latin typeface="Broadway"/>
              </a:rPr>
              <a:t>Monday, October 4, 2010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Handwriting"/>
              </a:rPr>
              <a:t>Create and critique valid and invalid conditional statements, their inverses, converses, and contraposi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70080" y="1599840"/>
            <a:ext cx="3816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l Work: What are your plans for Fall Brea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e H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Broadway"/>
              </a:rPr>
              <a:t>Geometry 1</a:t>
            </a:r>
            <a:br>
              <a:rPr sz="4800"/>
            </a:br>
            <a:r>
              <a:rPr b="0" lang="en-US" sz="3600" spc="-1" strike="noStrike">
                <a:solidFill>
                  <a:srgbClr val="330033"/>
                </a:solidFill>
                <a:latin typeface="Broadway"/>
              </a:rPr>
              <a:t>Wednesday, October 6, 2010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6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Handwriting"/>
              </a:rPr>
              <a:t>Create and critique valid and invalid conditional statements, their inverses, converses, and contraposi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870080" y="1599840"/>
            <a:ext cx="3816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l Work:  What is a conditional state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Ex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itional Stat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gnment: Lesson 2.1, 9-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4T20:05:51Z</dcterms:created>
  <dc:creator>tstephens</dc:creator>
  <dc:description/>
  <dc:language>en-US</dc:language>
  <cp:lastModifiedBy>tstephens</cp:lastModifiedBy>
  <dcterms:modified xsi:type="dcterms:W3CDTF">2010-10-06T15:22:52Z</dcterms:modified>
  <cp:revision>50</cp:revision>
  <dc:subject/>
  <dc:title>Slide 1</dc:title>
</cp:coreProperties>
</file>